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2D3E-EA17-4A8E-A627-486F0CB60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AC04-E548-4E0A-901A-E86195C3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AAA6-678A-42F2-937B-259B885FC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251E-F1AB-4EE9-AF20-7387E0831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0862-C647-4187-9DEE-6BB90EEB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C7F8-BAD9-4B33-A28D-817246B0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2159-8FF4-48D1-8443-CF24D658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DA09-D7AE-49E8-A13E-ADF3FF39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A9C7-3B3C-474A-8219-C0A03487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41EA-2FEF-4678-ADB1-33E038D5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6C77-9B4C-4F05-B7BC-0F61D993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0AE0-CF0E-4B7D-9608-9EC6FBE8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28F0-18AD-4A32-9948-1922F1840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h Blood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h-positi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lood has the Rh ant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h-negati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lood does not have the Rh ant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bodies against the Rh antigen do not develop unless an Rh-negative person is exposed to Rh-positive blood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occur through a trans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occur through transfer of blood across the placen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lood 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l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s a type of connective tissue that consists of formed elements (cells and cell fragments) surrounded by a liquid matri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med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d blood cells (RBCs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rythrocy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ccount for about 95% of the volume of formed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White blood cells (WBCs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eukocy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latelet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rombocy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cell fragments) account for the other 5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rythrocytes (RB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rythrocytes (RBC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disk-shaped cells that contai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emoglob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responsible for red colo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imary function of erythrocyte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transport oxygen from the lungs to the various tissues of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assist in the transport of carbon dioxide from the tissues to the lu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ukocytes (WB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ukocy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WBCs) are spherical cells that are a whitish color because they don’t have hemoglob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ukoc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 the body against invading micro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dead cells and debris from 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latel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latele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rombocy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re fragments of cells that are produced in the red bone ma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telets are involved with preventing blood loss (important role in homeostasi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as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pale yellow fluid that consists of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2%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% substances (proteins, ions, nutrients, gases, and waste produ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s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s osmotic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nvolved in i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s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lood Grou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rface of erythrocytes have molecules calle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ntige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in the plasma there are proteins calle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ntibod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bodies are very specific – each antibody can only combine with a certain anti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ntigens have been categorized in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lood group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O Blood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4991040"/>
        </p:xfrm>
        <a:graphic>
          <a:graphicData uri="http://schemas.openxmlformats.org/drawingml/2006/table">
            <a:tbl>
              <a:tblPr/>
              <a:tblGrid>
                <a:gridCol w="2057400"/>
                <a:gridCol w="3048120"/>
                <a:gridCol w="31240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ood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 of Antigens 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 of Antibodies 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and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ither A nor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ither A nor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and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20:35:18Z</dcterms:created>
  <dc:creator>nhs</dc:creator>
  <dc:description/>
  <dc:language>en-US</dc:language>
  <cp:lastModifiedBy>jbible</cp:lastModifiedBy>
  <dcterms:modified xsi:type="dcterms:W3CDTF">2009-12-02T21:25:45Z</dcterms:modified>
  <cp:revision>5</cp:revision>
  <dc:subject/>
  <dc:title>Blood</dc:title>
</cp:coreProperties>
</file>